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435-10F0-438A-B87C-74342B70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1AF-0207-4B2F-AFB5-22C3B82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77B-0941-4F83-B1C7-EEBD3EB3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5E2-9AAD-4AD6-AFE8-D42548D4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9B0-2A82-410A-9E19-746A019B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37B-9B10-4F13-AACD-78B1C097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6B9-BA4C-4A4C-B91B-97AB342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66AC-6645-44EC-885A-D6D1D39E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6D4D-C399-4AF7-82D1-38868BB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10CB-CC37-4E94-B727-D99D34E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F4D-E78E-494D-8F1C-4A88781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0B5-409D-4979-9F60-C61642A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C16D-6F10-48F9-9A90-6414F93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31BA-D535-4C23-BD3A-15732F3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576-A61F-41A5-B842-0A8244DE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705F-B2F0-407F-89FA-56E5816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776F-2148-49B0-91FE-C3E9FE7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2C8-8739-4B0F-9ED2-455D7069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658-F717-455D-9C3C-09B6FD8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97F-E6A0-42A4-ABDF-835E6B6F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1B8-791A-4E66-A8F5-860823BA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2B1-ADEC-42CF-A7EC-C5ED054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03D-449E-46DA-920D-3524B4E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6B7-A3B0-41BC-8DDE-CD76E47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25F6-E158-4A28-A135-4C7AE32390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9316-04CD-4622-9C08-497CA7301E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Grades 7/8 Breakout Session 2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d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ing the MATCH templat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ching problems/tasks/questions to each of the three part less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zing assessment task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arning log refle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sentence strips provided to you on entry to the room form groups based on which part of the three part lesson the sentence strip descri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information with the group and then divide into groups of three to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ich of the three parts of a lesson each of the 6 questions/task/problems related to the same learning goal is best su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justify your decisions to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 within your group analyze the provided assessment tasks from different text books related to operations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ask best assess whether a student has achieved the lesson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nother pair/small group to shar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Learning log Entry: Letter home from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home describing an aha moment, a question you still have, something you will apply in your practice, or something that you understand at a deepe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6T21:36:29Z</dcterms:modified>
  <cp:revision>132</cp:revision>
  <dc:subject/>
  <dc:title>Slide 1</dc:title>
</cp:coreProperties>
</file>